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86C-3401-47F9-957A-C9D4762F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0F2-12D7-4BDA-81CF-A17599A1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2D3-6AFA-49E5-A86D-586745FA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E25-C373-48A1-97AD-CF69B205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E91-CDE4-4452-AD34-1B36B2F0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241-0FBA-4D51-B8C1-B3908121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4D4-239C-4063-B6F2-15328793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792-5FA9-4730-8156-796823E6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34F-FF71-46D0-B032-845A3384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D7D-8234-4AD4-A685-DE44742F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9A2-63AE-41F1-9BEB-74034DF4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21B-0C75-4BD3-B19C-359DA1AE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F452-DDE3-491D-B831-D03269666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96720"/>
            <a:ext cx="8991720" cy="616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421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9996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81040"/>
            <a:ext cx="883908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7:58:29Z</dcterms:created>
  <dc:creator>MKrakowski</dc:creator>
  <dc:description/>
  <dc:language>en-US</dc:language>
  <cp:lastModifiedBy>MKrakowski</cp:lastModifiedBy>
  <dcterms:modified xsi:type="dcterms:W3CDTF">2011-09-21T18:15:14Z</dcterms:modified>
  <cp:revision>1</cp:revision>
  <dc:subject/>
  <dc:title>Slide 1</dc:title>
</cp:coreProperties>
</file>